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5EA4C-5890-4BBE-A098-1DAF14A13B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3C18F-3233-426E-BCF4-7D53B24ED5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A283C-84B9-450B-A544-5753CCD75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1C5BA-03E0-452B-A70E-7CD356A68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65220-3CDA-46CB-AD42-7A59787DA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07C56-81D7-4A7D-A121-CFA89B076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C98FA-A8BD-4D10-9C67-5FADB3094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7B041-7021-46AE-8E30-08856E77B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D3B32-B6C5-4300-B705-10A7392C0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A744E-2BDB-4062-9753-1993F32A4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97AF7-39FA-4905-B025-08803AAF7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B472C-BE49-41F0-B4AA-A12F31A54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4D761-0EED-4A7F-BACD-704C71014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5EE2D-4D4E-439C-BCF2-26847034C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F95BC-2056-4F75-851F-895EACA4C5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pter 0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3.04 The largest source of international migrants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North Ame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South Ame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Af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4. As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Eur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03_02"/>
          <p:cNvPicPr/>
          <p:nvPr/>
        </p:nvPicPr>
        <p:blipFill>
          <a:blip r:embed="rId1"/>
          <a:stretch/>
        </p:blipFill>
        <p:spPr>
          <a:xfrm>
            <a:off x="533520" y="642960"/>
            <a:ext cx="7848360" cy="47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3.05 The most likely destination of international migrants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North Ame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South Ame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Af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As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Eur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3.05 The most likely destination of international migrants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1. North Ame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South Ame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Af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As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Eur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03_03"/>
          <p:cNvPicPr/>
          <p:nvPr/>
        </p:nvPicPr>
        <p:blipFill>
          <a:blip r:embed="rId1"/>
          <a:stretch/>
        </p:blipFill>
        <p:spPr>
          <a:xfrm>
            <a:off x="0" y="517680"/>
            <a:ext cx="914400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3.06 In which decade was immigration into the United States the lowe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1880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1900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1930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1970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1990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3.06 In which decade was immigration into the United States the lowe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1880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1900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3. 1930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1970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1990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03_04"/>
          <p:cNvPicPr/>
          <p:nvPr/>
        </p:nvPicPr>
        <p:blipFill>
          <a:blip r:embed="rId1"/>
          <a:stretch/>
        </p:blipFill>
        <p:spPr>
          <a:xfrm>
            <a:off x="0" y="609480"/>
            <a:ext cx="914400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3.07 Which country has been the largest source of immigrants from Asia to the United States over the last two decad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Vietn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Philipp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South Ko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Jap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In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3.07 Which country has been the largest source of immigrants from Asia to the United States over the last two decad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Vietn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Philipp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South Ko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Jap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5. In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3.01 Which of the following is the strongest push factor for international migr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Political in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Low living standa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Severe weath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Inadequate supplies of agricultural l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Family disagreem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03_05"/>
          <p:cNvPicPr/>
          <p:nvPr/>
        </p:nvPicPr>
        <p:blipFill>
          <a:blip r:embed="rId1"/>
          <a:stretch/>
        </p:blipFill>
        <p:spPr>
          <a:xfrm>
            <a:off x="0" y="1298520"/>
            <a:ext cx="9144000" cy="42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3.08 The greatest number of undocumented immigrants in the United States come fr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Can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Mex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Caribbe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Eur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As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3.08 The greatest number of undocumented immigrants in the United States come fr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Can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2. Mex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Caribbe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Eur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As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3.09  Cuban emigrants to the United St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Are considered political refuge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Typically support Fidel Cast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Settle primarily in and around New York C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Are usually turned back at s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Usually try to return to Cub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3.09  Cuban emigrants to the United St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1. Are considered political refuge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Typically support Fidel Cast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Settle primarily in and around New York C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Are usually turned back at s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Usually try to return to Cub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3.10 Which of the following was a new trend in western countries in the 1990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Urban to suburban mi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Rural to urban mi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Counterurbaniz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Urban to urban mi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Suburban to suburban mi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3.10 Which of the following was a new trend in western countries in the 1990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Urban to suburban mi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Rural to urban mi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3. Counterurbaniz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Urban to urban mi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Suburban to suburban mi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3.01 Which of the following is the strongest push factor for international migr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1. Political in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Low living standa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Severe weath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Inadequate supplies of agricultural l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Family disagreem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3.02 In 2007, which of the following countries had the greatest number of internal refuge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Pol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Braz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United St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Ch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Iraq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3.02 In 2007, which of the following countries had the greatest number of internal refuge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Pol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Braz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United St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Ch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5. Iraq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03_01"/>
          <p:cNvPicPr/>
          <p:nvPr/>
        </p:nvPicPr>
        <p:blipFill>
          <a:blip r:embed="rId1"/>
          <a:stretch/>
        </p:blipFill>
        <p:spPr>
          <a:xfrm>
            <a:off x="0" y="762120"/>
            <a:ext cx="9144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3.03 Moving from San Francisco to Iowa would be conside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International mi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Intraregional mi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Interregional mi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Forced mi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Net mi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3.03 Moving from San Francisco to Iowa would be conside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International mi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Intraregional mi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3. Interregional mi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Forced mi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Net mi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3.04 The largest source of international migrants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North Ame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South Ame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Af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As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Eur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3T21:30:07Z</dcterms:created>
  <dc:creator>Michael Pretes</dc:creator>
  <dc:description/>
  <dc:language>en-US</dc:language>
  <cp:lastModifiedBy>Unity Rain</cp:lastModifiedBy>
  <dcterms:modified xsi:type="dcterms:W3CDTF">2011-04-24T22:15:59Z</dcterms:modified>
  <cp:revision>82</cp:revision>
  <dc:subject/>
  <dc:title>CRS Chapter 4</dc:title>
</cp:coreProperties>
</file>